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9744-13B6-47F4-BB24-C1E53FB1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F557-C8CA-4B1A-8905-EC6504E8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0B48-E7D3-4AA3-916E-2906F9A2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943-D974-4A82-838F-7D0F97B0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7D42-8FA1-4DC8-B467-BEE127AD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E5E6-B00F-4921-A6E9-4C5C8C3B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AF95-084C-4D72-904F-A0430BB9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E582-F4BF-4E30-BE3A-BCA55422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8FD1-20C1-4BBF-8352-33221511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3169-692B-42BA-A061-8572B5F2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6EC5-5412-4699-962B-9EA3E899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B6D-EE04-4C0E-9592-61B2A469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A69B-98C7-44F0-A56D-D2FA363A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6556-F0DA-49BB-852D-7514A58C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4E71-708B-430E-A8D6-6A828695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5946-1E64-4111-9E57-900C11EB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0D80-8750-4565-9FAB-CF4D39C6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C29B5-CC86-4F6E-840E-53038988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6E9B7-EAAB-4FC9-ADD3-6F44E205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6D6D1-F564-4860-A597-D9D58525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BD367-B996-49D2-B1F0-D88B1773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5F597-4AD2-4860-BEBA-5B7ACD71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05E-2570-4C63-8C65-A1F6AC83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E73E7-E613-4426-963D-48D3F721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BEA70-C74D-4911-B22F-42D56855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396D1-83F3-4F8B-B8D8-1E4422AF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C8F6-5AEF-4202-A19B-343DB76A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76609-83B4-41B9-8DB1-58B79FF2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CC6B7-76C6-463F-903E-A49FE464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EACAB-9E67-4A44-B0E9-F95B5EDA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BF4AF-DC79-4023-9383-C6687657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EB56A-FD41-4D6F-B740-9BF68FE9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71F73-7D55-4A7F-B48E-6E9C29DA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982-5902-4438-8C5D-19DCD189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DB468-D371-46BA-B0AE-00784732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55CC2-235F-4EF0-9AC0-36450F50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97330-0FF1-4CF4-8BE2-1B52D5EF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AED3C-75B5-4A2E-B3A2-27A033B1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A7B61-288B-420E-BAB9-C48AF28E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4D903-BBB5-4C69-905A-3B2ABF6A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62D2D-69E9-4FDF-86A6-AEA8D287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F2363-8579-416B-8B33-4A8A971B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CE9C6-0F5C-4650-9143-3D4E734F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33D73-9131-46EC-8DF4-CC4BD3C3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9A1-01E1-4C9C-9E6C-053C8040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F8D22-2E2F-43E3-9675-3CEB0D85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AEA4E-9644-4C35-A05C-042672CA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39FB1-1298-4590-95AD-E18F1E41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9F360-51B9-4ADA-8EB8-C7A9FF66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A10A9-9283-42DA-91F0-360BFBA5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FF37C-EB1D-4034-A8C8-CDA21321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DA610-0DAF-41A0-B609-781D2B2B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B6966-3C92-4C0A-96D4-DA6B17B6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F8803-31EA-4EE6-BBC9-0388F6E6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E16EA-A4D1-45BD-A00A-9431586E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76D-DF31-47C0-AA86-5BC28053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1F524-CB5B-42CB-834F-B4114E14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CE5-FDB6-4239-9CA1-1B47E3E8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993-DDF1-4CDE-9416-7BB2D615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8B7-F37D-4D62-B16A-2E6C989D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AC14-110A-42C2-B3AF-7EEADF01E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02C1-CBD3-451A-9144-36B7442CF9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AA39-909B-408D-8297-DC21DA3AF9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CCB0-14C5-4FA4-B834-65F27FC1D7EF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1482-7E31-4ECF-8620-7C62386A50DD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8600" y="228600"/>
            <a:ext cx="8610480" cy="45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I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How did the Conquistadors conquer the Aztecs &amp; Inc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 N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omplete document #1 on the hand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agine you see a spaceship land in front of your house and a Martian steps out.  What do you think?  How do you feel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565440" cy="5943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876920" y="762120"/>
            <a:ext cx="38480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657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2900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773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6103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3200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NOTE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7621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RANCISCO PIZARRO CONQUERS THE IN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1532)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752480"/>
            <a:ext cx="61722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ed Native American 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ltahualp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nca Emperor) after slaughtering thousands of his fol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nish demanded a huge ransom for the 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as paid it in gold, but Altahualpa was killed any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resistance, Spanish gained control of much of South America including Peru, Ecuador &amp;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248520" y="3219480"/>
            <a:ext cx="28954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04920" y="1050840"/>
            <a:ext cx="86104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09480" y="457200"/>
            <a:ext cx="8001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W DID EACH OF THE FOLLOWING LEAD TO EUROPEAN INFLUENCE AND DOMINATION IN THE WORLD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UNS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r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133720" y="44197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133720" y="1600200"/>
            <a:ext cx="16761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36720" y="1143000"/>
            <a:ext cx="4857480" cy="510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032440" y="533520"/>
            <a:ext cx="2971800" cy="1981080"/>
          </a:xfrm>
          <a:prstGeom prst="wedgeRoundRectCallout">
            <a:avLst>
              <a:gd name="adj1" fmla="val -48879"/>
              <a:gd name="adj2" fmla="val 73879"/>
              <a:gd name="adj3" fmla="val 16667"/>
            </a:avLst>
          </a:prstGeom>
          <a:solidFill>
            <a:srgbClr val="99cc00"/>
          </a:soli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08400" y="914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howcard Gothic"/>
              </a:rPr>
              <a:t>Take me to your lead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251400" y="3657600"/>
            <a:ext cx="2664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20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8600" y="0"/>
            <a:ext cx="8915400" cy="67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</a:rPr>
              <a:t>The Conquistad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dvantages for the Aztecs/In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amiliarity with geograph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reater food suppl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arger number of soldier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Rely on citizens 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produce food, train soldiers, make weapo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dvantages for Spa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uperior technology &amp; equip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orses, guns &amp; armo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lliances with conquered peop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ad a common enem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elped fight with the Spanish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isease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smallpox brought to South Ameri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99ff"/>
                </a:solidFill>
                <a:latin typeface="Arial"/>
              </a:rPr>
              <a:t>Hernando Cor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nquered the Aztecs – 151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99ff"/>
                </a:solidFill>
                <a:latin typeface="Arial"/>
              </a:rPr>
              <a:t>Moctezuma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Aztec leader who was kill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otives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religion &amp; weal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99ff"/>
                </a:solidFill>
                <a:latin typeface="Arial"/>
              </a:rPr>
              <a:t>Francisco Pizar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nquered the Incas – 153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aptured Incan Emperor</a:t>
            </a:r>
            <a:r>
              <a:rPr b="0" lang="en-US" sz="1900" spc="-1" strike="noStrike">
                <a:solidFill>
                  <a:srgbClr val="6699ff"/>
                </a:solidFill>
                <a:latin typeface="Arial"/>
              </a:rPr>
              <a:t> Athualpa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ncas collapsed with no strong lead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pain takes Inca gol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0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0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2619360" cy="2654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305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90920" y="685800"/>
            <a:ext cx="4324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09680" y="6033960"/>
            <a:ext cx="304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4f00"/>
                </a:solidFill>
                <a:latin typeface="BlackChancery"/>
              </a:rPr>
              <a:t>Fernando Co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Hernán Cortés"/>
          <p:cNvPicPr/>
          <p:nvPr/>
        </p:nvPicPr>
        <p:blipFill>
          <a:blip r:embed="rId1"/>
          <a:stretch/>
        </p:blipFill>
        <p:spPr>
          <a:xfrm>
            <a:off x="2201760" y="1538280"/>
            <a:ext cx="2979720" cy="4267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15" name="" descr="Portrait of an Aztec King"/>
          <p:cNvPicPr/>
          <p:nvPr/>
        </p:nvPicPr>
        <p:blipFill>
          <a:blip r:embed="rId2"/>
          <a:stretch/>
        </p:blipFill>
        <p:spPr>
          <a:xfrm>
            <a:off x="6126120" y="1538280"/>
            <a:ext cx="2560680" cy="4267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1905120" y="76320"/>
            <a:ext cx="70866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lackChancery"/>
              </a:rPr>
              <a:t>The First Spanish Conquests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BlackChancery"/>
              </a:rPr>
              <a:t>The Azte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6033960"/>
            <a:ext cx="304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4f00"/>
                </a:solidFill>
                <a:latin typeface="BlackChancery"/>
              </a:rPr>
              <a:t>Montezum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3352680"/>
            <a:ext cx="838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lackChancery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057400" y="152280"/>
            <a:ext cx="6858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lackChancery"/>
              </a:rPr>
              <a:t>The Death of Montezum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Spaniards Took Shelter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093760" y="1066680"/>
            <a:ext cx="2706840" cy="2895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21" name="" descr="Montezuma is Put in Chains"/>
          <p:cNvPicPr/>
          <p:nvPr/>
        </p:nvPicPr>
        <p:blipFill>
          <a:blip r:embed="rId2">
            <a:lum contrast="6000"/>
          </a:blip>
          <a:srcRect l="2551" t="2319" r="0" b="0"/>
          <a:stretch/>
        </p:blipFill>
        <p:spPr>
          <a:xfrm>
            <a:off x="3651120" y="3429000"/>
            <a:ext cx="2901960" cy="3200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22" name="" descr="The Death of Montezuma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443640" y="1219320"/>
            <a:ext cx="2395440" cy="3886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6172200" cy="4628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224" name=""/>
          <p:cNvSpPr/>
          <p:nvPr/>
        </p:nvSpPr>
        <p:spPr>
          <a:xfrm>
            <a:off x="1905120" y="228600"/>
            <a:ext cx="70866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lackChancery"/>
              </a:rPr>
              <a:t>Mexico Surrenders to Co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5638680"/>
            <a:ext cx="350532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24f00"/>
                </a:solidFill>
                <a:latin typeface="BlackChancery"/>
              </a:rPr>
              <a:t>Francisco </a:t>
            </a:r>
            <a:br>
              <a:rPr sz="3000"/>
            </a:br>
            <a:r>
              <a:rPr b="1" lang="en-US" sz="3000" spc="-1" strike="noStrike">
                <a:solidFill>
                  <a:srgbClr val="c24f00"/>
                </a:solidFill>
                <a:latin typeface="BlackChancery"/>
              </a:rPr>
              <a:t>Pizar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81080" y="289080"/>
            <a:ext cx="70866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lackChancery"/>
              </a:rPr>
              <a:t>The First Spanish Conquests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BlackChancery"/>
              </a:rPr>
              <a:t>                             The In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5638680"/>
            <a:ext cx="304776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24f00"/>
                </a:solidFill>
                <a:latin typeface="BlackChancery"/>
              </a:rPr>
              <a:t>Atahualp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3352680"/>
            <a:ext cx="838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lackChancery"/>
              </a:rPr>
              <a:t>v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400800" y="1790640"/>
            <a:ext cx="1925640" cy="3772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1904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2:25:17Z</dcterms:created>
  <dc:creator>DOE</dc:creator>
  <dc:description/>
  <dc:language>en-US</dc:language>
  <cp:lastModifiedBy>NYCDOE</cp:lastModifiedBy>
  <dcterms:modified xsi:type="dcterms:W3CDTF">2009-10-21T10:19:40Z</dcterms:modified>
  <cp:revision>8</cp:revision>
  <dc:subject/>
  <dc:title>Slide 1</dc:title>
</cp:coreProperties>
</file>